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2BC-D6AF-4388-9247-6FB57D5B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411-4290-4CBD-A267-E6B5DAF6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9FF-F40B-4817-9492-2C7348EB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086-C063-4197-BC54-89121060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F547C-767B-4CC0-88F7-CA78BC3B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BA562-2902-4528-A2A0-3FFC4B81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275EE-8F9B-4726-8DA6-F5DF2403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5961C-1AC7-48B8-894A-05860553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EAFE6-1920-450B-B5A0-78245581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768F2-BA2D-4D52-A2AF-5843B3F8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4D50D-9E76-4AC8-A88F-7D612BBB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6AE-210F-4FE8-875C-B7A726BE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953F7-9D42-4BCF-ADF5-C1F6B47C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ECCDE-7168-4074-8DF9-6A9B5F05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03555-6F6D-4FDC-A1D7-D60D24B2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31290-39DC-4654-9FAD-0A3C15E2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6A9E9-2756-41C3-B996-973F77DF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37A-0233-4BDC-B5A3-4FD0A485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792-194C-45E1-B594-CC99A640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4F9-2106-4EEC-A831-3B22596F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527-FBB1-4CCA-9696-5F70A463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3D9-F260-4109-B911-6FE32BFB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D8B-C26F-4229-B11A-944E60CF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C01-5FCA-44D0-A074-71E9CAA5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F3DC-F119-4961-AB60-E333EEE854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CA86-90D3-42BD-B4A3-D51DA52360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Joshua: The New Leader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. 1:1 – 6: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s. 18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57800" y="1066680"/>
            <a:ext cx="33526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e Elevation Level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Jordan Valle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Jeri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238880" cy="4310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133720" y="0"/>
            <a:ext cx="444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Israelites March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round 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5362560" cy="6898320"/>
            <a:chOff x="0" y="0"/>
            <a:chExt cx="5362560" cy="6898320"/>
          </a:xfrm>
        </p:grpSpPr>
        <p:pic>
          <p:nvPicPr>
            <p:cNvPr id="148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8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846240" y="656604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3480" y="663408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3657240" y="3200400"/>
            <a:ext cx="251460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877000" y="2438280"/>
            <a:ext cx="3267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ossing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rd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380880"/>
            <a:ext cx="3429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harge To Joshua – 1:1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shua’s Command To The People – 1:10-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ying Jericho: Rahab’s Help -2:1-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4038480"/>
            <a:ext cx="3276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ing The Jordan River – 3:1-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emorial Monuments – 4:1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Ark Moves -4:10-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ument at Gilgal – 4:19-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149400"/>
            <a:ext cx="4800600" cy="6706440"/>
            <a:chOff x="0" y="149400"/>
            <a:chExt cx="4800600" cy="6706440"/>
          </a:xfrm>
        </p:grpSpPr>
        <p:pic>
          <p:nvPicPr>
            <p:cNvPr id="156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149400"/>
              <a:ext cx="4800600" cy="63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443040" y="6280200"/>
              <a:ext cx="1354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520" y="6343560"/>
              <a:ext cx="213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4724280" y="457200"/>
            <a:ext cx="4000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vents At Gilga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124080" y="1143000"/>
            <a:ext cx="4648320" cy="2895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52480" y="3124080"/>
            <a:ext cx="99540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81280"/>
            <a:ext cx="83808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3124080"/>
            <a:ext cx="3809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ected Circumcision – 5:1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ssover Kept &amp; Manna Ceases – 5:1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149400"/>
            <a:ext cx="4648320" cy="6706440"/>
            <a:chOff x="228600" y="149400"/>
            <a:chExt cx="4648320" cy="6706440"/>
          </a:xfrm>
        </p:grpSpPr>
        <p:pic>
          <p:nvPicPr>
            <p:cNvPr id="165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228600" y="149400"/>
              <a:ext cx="4648320" cy="63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562560" y="6280200"/>
              <a:ext cx="1311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880" y="6343560"/>
              <a:ext cx="20721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1676520" y="3200400"/>
            <a:ext cx="16239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rich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3581280"/>
            <a:ext cx="68580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62520" y="304920"/>
            <a:ext cx="49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quest of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ntral Hill Count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1981080"/>
            <a:ext cx="3733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ince of Jehovah’s Army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:13 – 6: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Battle for Jericho – 6:6-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3429000"/>
            <a:ext cx="25909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– 6:1-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arch – 6:3-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hab Saved – 6:22-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e On The Rebuilder – 6:26,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f: 1 Kgs.16: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2590920" y="2590920"/>
            <a:ext cx="3962160" cy="1676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477120" y="2438280"/>
            <a:ext cx="1380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742840" y="1676520"/>
            <a:ext cx="297180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38680" y="1447920"/>
            <a:ext cx="108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lgal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66680" y="227160"/>
            <a:ext cx="7162920" cy="638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28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0120" y="2514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 Satellite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977240" cy="6091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895480" y="609480"/>
            <a:ext cx="1623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now Cap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0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4218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4495680"/>
            <a:ext cx="407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 - City of Pal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410080" y="3295800"/>
            <a:ext cx="2381400" cy="3562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838080" y="3733920"/>
            <a:ext cx="1381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7680" y="228600"/>
            <a:ext cx="4788000" cy="567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638680" y="838080"/>
            <a:ext cx="312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t Concept of How The Walls Fell Down A Sloping Rock Foundation, Considering Present Rem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Terry W. Benton</cp:lastModifiedBy>
  <dcterms:modified xsi:type="dcterms:W3CDTF">2005-01-08T00:06:38Z</dcterms:modified>
  <cp:revision>4</cp:revision>
  <dc:subject/>
  <dc:title>Joshua: The New Leader</dc:title>
</cp:coreProperties>
</file>